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8.png" ContentType="image/png"/>
  <Override PartName="/ppt/media/image14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  <p:sldId id="268" r:id="rId37"/>
    <p:sldId id="269" r:id="rId38"/>
    <p:sldId id="270" r:id="rId39"/>
    <p:sldId id="27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slide" Target="slides/slide13.xml"/><Relationship Id="rId38" Type="http://schemas.openxmlformats.org/officeDocument/2006/relationships/slide" Target="slides/slide14.xml"/><Relationship Id="rId39" Type="http://schemas.openxmlformats.org/officeDocument/2006/relationships/slide" Target="slides/slide15.xml"/><Relationship Id="rId40" Type="http://schemas.openxmlformats.org/officeDocument/2006/relationships/slide" Target="slides/slide16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15CB-2F8D-4F87-A0FF-78DF967F5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BEB8-5401-41FE-9B68-3A3E93CC0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78D896-D8AA-4A6C-82EE-0AD8379AB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0DC76D-F8CC-4546-A3E0-A65C584D2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3584AC5-B56D-4032-AD45-2F04941AA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B458F9-515E-4897-B2E1-6C97F0EF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C52D1EA-7300-4689-BBCA-FCE8A42D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2F82FE-7398-4D95-B2A8-C8F734B7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196826-71B2-42B6-91E2-789DC8170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69CD95-07BC-46E7-88D5-CAF1B8B3C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A75CE9-88D8-44C7-A1D2-F13BC0450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A0810D-E5DB-412F-A14B-ED1FF6DE5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00AF-971A-4C1F-84A0-A78189F4E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0615E8-2C7A-4A0E-9D4D-38036318F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54FA23-5BB1-46DC-B0C8-1E7237EFC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4CB575-B989-432B-A35F-4CE6529E4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BF99DB-C519-4ACC-B8D9-B0BCC1F7B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D9E518-1A0D-4230-A49A-92F7A333D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BCFD08-1097-46E8-A80F-8DEF888A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5082EE-A852-4B15-825A-8F9493AC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05802E-9564-4124-8983-433D9341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8D252C-10F5-4CC2-8998-A02095AE3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DBF7B4-E45B-4638-8A28-A2B648EAD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01B1-ED7B-4726-A6C9-9813C1DD6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A26E0B-E725-4C8A-9443-3354BCA8C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7A6D6A-1CAE-487E-9464-DBB734807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BB280D-BB74-4C64-A935-572C255B3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4BC10C-3EEA-42AE-8DD2-C11A3657B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25B908-C1B1-46B9-B060-B3F89059D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9997EA-4809-4958-83FF-E0A9CC4EF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9913B5-3F2F-453D-93A3-01D09F000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2F7B88-7E0D-455E-8AFE-56F9406B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B3E33A-FF0F-41D8-B9F6-1BD989F0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CB9C37-5DDA-4876-B7A9-63391A0E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BD8E9-02B0-4429-AA32-5B4F463BD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A8477D-AD79-45F3-B464-B76953E1E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63AE78-35D7-49D7-9AA8-622467866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C1D8E8-E3E9-4FEC-942F-9F13AA961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BE9EF8-6099-490A-8D6C-D61C37568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078B86-F1C0-4732-B4A4-23F6FA6E2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47F9DE-C73B-4F16-96E0-768F44452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F8AB04-8325-4B08-81C6-1DA12689F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A0FF17-7D31-4AB3-AFFA-A4D77EDB4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1D36B1-3563-4346-A129-362FFF7CE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D6D8CB-04B0-4311-9A30-AFDA20F2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E4277-C8EB-4097-B02A-C3BAD0D5A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4A37A2-A9FD-4FDB-9FEF-FAC8CCC3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5F86DA-9617-4DB0-B074-6BCE272E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06A377-C7FD-4744-8018-C04690566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1FFFA0-E92B-4758-B3D3-838216882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E0D387-CC93-40EE-9601-097B1E6CA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87AD39-E98F-4B7E-B9DB-1723D8305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1525DD-8A40-49BE-9C62-A7B74E890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0D1B5C-CE36-450E-A5E8-62CE24DDA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7011C9-999F-4475-8FF0-E67AD5623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E7BAF4-EC05-44FE-8C28-CDF550AE5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45EBB-7822-4511-8954-2D762940C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720466-1A6D-44E3-B54A-AEB4E3776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F3CF7F-D10D-4BE8-8F53-0D95ECF0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44E1C6-14E5-46AF-8A30-19344B6A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FEA61B-60F3-4A27-9349-9FE9E289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18F55D-5399-4631-806A-C0E357B07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BE331E-FD6E-4253-B8EA-EC00E1DD3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E541D0-1CC1-4CC6-B085-619B65C48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B97099-A033-4C89-94DC-2950BFFB0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DEEEBE-2CCD-49CE-93AB-F72F3262F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4078B5-C979-4DE4-89B6-6D276CBF0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C9114-6589-4CC5-A06F-992058427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14516D-5FD7-4ECF-B670-8C4DE7429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4F9CED-4F59-475C-9186-4730270AE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44F202-6CAE-46A3-A257-5CF232C5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1AD864-CFDA-4402-AB67-3D39B8C3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17C03A-F7A6-465F-BE34-7FC6F588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0495D4-297C-4B3D-ABED-5E79BC9F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C009D4-E7DF-4C27-82B4-6B4A10370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C0316B-0A0A-4E65-85DC-EBF197714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A66024-6486-448A-B067-D90D13B51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B603D5-8BE8-4F3C-B080-5CE80358F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A1913-A7C6-4839-B52E-8A4E92D0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98387B-0D9C-458F-8FE7-D2673447E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BEA484-63C7-4532-9684-687A61336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7BD65D-B801-40B2-9ADE-265D1545A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96A3B9-7B58-4FBF-99B3-7F536E186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0EAEAD-995E-4FB0-8184-783E52AB5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D0D260-FE39-499E-A977-700633B2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8E918A-E765-4CD4-9C17-00C4997C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47C2F2-EB2C-4700-B890-429FA32C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D6F8D3-F7FF-4983-A904-DDD0413C4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5687A6-73B9-4695-9775-43FC9CA30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4D46F-4B2B-45A6-8BDB-62AE11E0E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2ED84F-4C1A-44AC-A080-44F6FE0F7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FBAA0D-95F2-4B8D-9A85-E3721CB49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52CB86-FCC5-46A9-8CE0-ED2186E00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5DE7BF-1585-48F3-AF67-0FDEB8C07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F2BA32-4676-4BF4-919B-3EFFA1C8F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E883F0-712F-4B97-BBB2-969876710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A071EB-175C-4E84-A3A5-789A407DE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9F4258-B8B6-4B7C-9EE8-59BDCD9F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C5907F-192D-4E93-B31C-C9EC1D2E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93E5C9-7FA8-4DFE-B1A5-E23B9A37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EC018-058A-4EF0-93C5-78B45779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1BE1D7-1AB7-49F9-85F5-61E682A74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545FBA-1E63-4E33-B9B7-B41AC477D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1C3277-289E-44FF-AAF9-C4B24B0DF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78D19C-DDD4-4278-A16C-9B0108703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297F39-3D2E-4772-BEDF-405851311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92D38D-7D7C-41C6-8C4E-3109A8FB4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45DE69-E7C4-45C3-AA01-AB4DF02EA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422C19-D1C3-445A-9C22-C38C292B0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478733-DF9A-4FE0-A113-A7EEBB096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EA0CE3-2FE1-4675-8152-9993F229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EA41-F174-4783-A36E-2C8751C3E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C7C63-C8DC-4763-B51C-B2E73859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C51590-E4C8-4F37-BD23-38004287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8837BC-20C7-4BFD-9D24-11235764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014019-023E-4E3C-A1B8-9ACDFBB0A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38309C-D717-4E16-B1BC-E5E26A827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2EF40C-37E6-48EB-8D59-820527521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74BB30-8DC6-411C-B9C0-A5546BA31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F5837D-A567-4CA5-895A-0C7BA662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89C121-F9C4-4733-9412-85AF011CC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325D14-6273-4FEE-9724-CF92605DF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CF92C6-5086-419E-93ED-84512CC25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E064D-04D2-4D8C-9A97-7F5CC366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0BD22C-DCD8-4F6D-AF5E-91DB04285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6EA969-D9AB-44A9-8A28-BCB64B56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C5C54E-A05A-466C-82DA-386EF7DC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0ABE22-AFB6-49D7-855D-F4C0D0CF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5E0736-B937-40F4-9D61-351376CF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171EDA-BF3F-47D7-8FED-AE11D835C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89DFF1-7C19-4E1D-9E84-F5E0665DC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CEF84C-3472-4CED-9655-6DFA59CD9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39C172-3A7F-446A-82A6-BA4BA30FD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9A1DEA-AEEF-4AE8-8DC2-39A1E232C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CB88F-3933-467C-9920-CB1B07FCE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4CF9A4-1E93-41C8-8330-87B3E4B88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58E224-CF1F-4CE5-B005-FE7411214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77B6A7-171F-4E66-8F1A-0E0A3AEC2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BC337D-E7E5-4B29-8005-30C86BD0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BCB615-681F-4030-BCD9-A1F16E95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798797-15A2-44B3-80AF-F1539356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C86FD9-8503-4D9E-BFB8-0B4AC873B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A72AF2-D591-4FAD-A3D1-3EFC9AC58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2895B0-0F19-49AB-B392-16B27CE93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18A903-C704-41E5-8CC1-12D53E321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9D508-F28A-4BCD-BCCE-717E0AD85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264ECA-4EA3-4C1B-85EE-6B935462E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00B5D8-CE07-4035-8E43-248F5F3B9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6B6005-CF77-4EE2-9F58-6EB02B6C0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D906E3-93A2-4A90-9369-2EB8CA7FE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B7F64F-3582-4E8A-9A52-6771379BF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9BEC3A-3774-422B-B9DD-8D11F580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E5447E-97B9-49F7-9A34-03D6710C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04309D-2B9A-49FB-8F62-D87F5E50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627615-A2B1-4148-B440-E06015406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AD99F7-0226-407D-8B0A-7FE2D5ACC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7FCDD-B09C-4AF4-A676-03AFA6D5C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6C78FE-B458-4610-B711-0B7173F9D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058777-A516-4C5E-9C43-0E7C3EE52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F44846-06C8-4DED-93CC-C2F66EAB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2A111C-AE81-4365-BED4-FFFAEA122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7FE35C-7D11-4078-B1EA-B9AD94B0F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680D79-4517-4A13-9F25-711D377C8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B89EEA-497B-443E-A9B4-E1D6D9CA4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C886E5-B71F-451B-B66E-EAB24FEE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43E52C-B0C2-4C36-B459-E84CFBC0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3112CA-EAA7-48C1-8C0E-4B9464D8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2E0EB-0F50-4EF1-A4E4-562AF8B8F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3B6BDE-AF3B-4051-BD7E-E903575E0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BE0CCE-F827-4746-B38E-2BD38E6EA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C9444F-A40D-4018-BBD3-9F3B58D63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ABAAFBB-F874-4DC8-95BC-356380422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8160C25-6DEC-4894-91F6-34A40889C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C501BA-B901-4440-8294-66371F6EA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4D83A68-9887-4912-ADFA-0022AF7C0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921D3F9-CB7B-4E42-9AF3-C4CA82436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AF1EC0E-5560-4DB6-AF60-77135C503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1977897-C297-4079-B459-8E03E4BC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4A877-7BCB-4814-8274-32FF53F3D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8D93D78-2D2F-4966-944C-1648C6EA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5EAAA9-4590-4FCE-8C93-6703DDF3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E7C250-21E6-4A4B-B0F8-4AC8D60C1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C7750BD-5826-47B1-882E-7E8C1E99A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EC2E710-588F-4E7D-89D3-E4B7C48B3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FEDBEFA-12B8-4C0A-B657-A8B65DCFD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2CEF5CB-C00A-437C-B8BA-DE3D036D7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1AD0374-06DE-4FD9-BA49-08A06069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246E749-ED9B-4E6C-9A10-5B059203E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2563C90-E100-4E35-8232-99D5F8206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C3656-B2C0-4A0A-BA66-6AA9B74A7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EF7B1AA-637F-40A6-A47F-88C41466F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9AD51CA-4A85-4460-8D46-4B59E313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E75B3DB-1EC6-42E8-A56F-A4D93324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6367E7D-7E96-43CD-A437-C78ED580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A7D55CD-C605-4503-B506-51D00B2C4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81380D9-5C8B-4623-90B3-5409850FD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06E6EEE-8D59-432A-986C-D7713FF02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A7800-D811-4D83-9197-FFE62E980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593E2-C962-4E60-88AA-C2D9337B2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E9F1-67E5-4905-8F22-3BAD9CDDF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E102E-9C95-44FD-B24D-5F59B5B67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65222-22C3-4415-B3B8-383A978B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24F3F-1C26-4253-A6F8-ADDE8E83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C309C-508A-4D54-AEA2-C6F7614C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F7CCE-B247-4A51-AF83-43D83FDAD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7ED4F-069A-4683-92A5-4E633F0E4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A4CD8-9F81-4D2D-9C9F-FA8C21FED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4F6658-B89A-4B6F-A013-E0207951B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DD1DA6-6234-4494-BE40-87DC58F16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380759-A8C5-42AC-A16E-D8088A2BB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FA05-036A-4083-9B26-48C389A32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B1F735-8DF7-455A-88F5-A4899CD18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5FC07B-A776-4532-8691-80DFDC1FF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CE8C9D-59DA-4773-A4E9-0525460EC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B22A20-6C1A-458B-846B-B9715ADC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A0DA3F-4A01-4D89-B462-E7447094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F593F1-0F38-4487-9097-759D5921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703A77-8EDB-4E0D-83CC-7D94A323A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36C589-51E9-4ACD-A7AA-A5DF6C445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51CBBE-B826-4488-AB7B-4B2CE090E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0380E-03FA-4DF2-9137-62CB93012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D09A-63D6-4704-AC0A-8B514011E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F7B7D-3AE2-411C-BE64-4AD0A572A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48D83-FB6E-4A9F-BDCD-1084158E6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F76BA-3A3E-4066-8E58-BCBF37879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7BBC2-44D8-46C1-BAAD-FD7822802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A3986-650B-4750-BC30-CD2D5B7B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7B089-6372-4EA3-B875-E5F0084F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D7978-3C83-45EE-BA61-F65ED923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29ED9-B5B3-4910-8C47-C85D258A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B4899-8E47-4BC4-8DB5-76E56F0B7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A5671-6808-479D-848F-F38A1361A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525E-4C84-4E61-BF04-BCA41B0C5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4E5EA-33C9-4A5D-8C16-D41F500CF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DA9DC-C6F5-4D91-8693-C2B11B719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BF09D-BC7E-4807-99D0-3E6BAC854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8C1AD-01D9-4A0F-848C-9BCE46CCB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6CE2A-BF25-4995-A820-C405B36A3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7BF61-3D26-4323-AB8B-9F4893A5B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B2551-4415-4EAD-B158-E69ABFC1E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E1DEA-0C95-4395-B132-319FB329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D3ECF-4B0B-4CD6-8E02-B2FBF949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62207-C6EB-4472-A674-EE6C0801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E1D6-CCC9-4248-94D6-2BCE565F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D586C0-159C-40FE-991A-EA24C1D20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CB443-6ACD-4F45-9C8D-2C00037CE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29D22-2864-4B35-BFC5-0AECDC5DB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6D561-1891-41D9-BC20-9FBF2B79E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ABCCE7-5F0D-4AB2-A511-DB1AFF33F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C8EAB8-99F4-4ED8-A98D-AA2362C6C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FE4DBA-C993-4ACF-A329-F361A4039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03C8C-0499-4801-A171-ABDD816DE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CD69E-2B4E-4C89-892E-0FDA4C139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FDD26-B3F8-44C0-B2A8-B0551C2B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50DE-7BEF-42AA-B427-28592B10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76553C-C17E-4FE1-89BC-97418DD3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627684-B0AE-40C4-92DD-AD61550D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8E333-28EF-4B8F-994E-390705AF4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FAA78-870F-4C9E-8CE8-8D955D72F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2171C-AB8C-4D25-8EF4-8C666A298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0DC59F-1253-421F-B118-5E3663784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D8209F-FC9B-4EBE-A47D-96FE56428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8B9C66-D78A-4508-8859-6FAF2C629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C0D3A7-82F1-47B7-92A0-B3DEB6829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EF3439-2D62-49D8-BEF4-DA91ABE27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295B-9372-4819-BB20-15E9D272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74A166-856F-4AD3-8D62-263BF33BE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213470-F121-44D7-9B44-1FCD97D0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99A855-413A-4B15-AEBD-ED5C6746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B2E586-81F5-4C8F-BBBB-29563EFA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B50E3-9AC0-4F37-A896-4F730BE85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963443-60FD-4861-88E4-0F7171849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88D512-C6C4-49E1-B7E0-05AE49C9D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B567FA-E8F5-4E9D-84CC-E579356E5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1531AF-E855-419B-82D4-4D52B3DB9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686CE8-3FA1-4FD3-9CD8-E0E3DDBD8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58562-72AD-4696-B99A-63A314193C7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123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24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25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26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27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28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29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30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31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32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33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34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35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36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37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38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39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40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41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42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43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44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45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46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47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48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49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0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1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2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3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4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5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6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7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8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159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60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1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A2E7C-4C94-4186-BF20-B1C32D4BA53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3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204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C3541-F8D5-41AB-B0C3-10585BF979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3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264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D1DF8-20F7-4BBC-8AD5-3B1D378E28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32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32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133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33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 type="dt" idx="3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CF295-870E-4286-B3F3-F1700888333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4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515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516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1529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530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 type="dt" idx="40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PlaceHolder 4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9A414-AEC7-4194-B9A2-13FE92EED5A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5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706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707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708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733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734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735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736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737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738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740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741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742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743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744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745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746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747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748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9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750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751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2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753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755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756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757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758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759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760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761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2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 type="dt" idx="43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PlaceHolder 3"/>
          <p:cNvSpPr>
            <a:spLocks noGrp="1"/>
          </p:cNvSpPr>
          <p:nvPr>
            <p:ph type="ftr" idx="44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PlaceHolder 4"/>
          <p:cNvSpPr>
            <a:spLocks noGrp="1"/>
          </p:cNvSpPr>
          <p:nvPr>
            <p:ph type="sldNum" idx="45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60962-FD98-4C0F-8243-771C12406F4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1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812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813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814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839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840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41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42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43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44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45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46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47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48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49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50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51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52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53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54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5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856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57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8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859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60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61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62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63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64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65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66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67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8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 type="dt" idx="46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 type="ftr" idx="47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PlaceHolder 4"/>
          <p:cNvSpPr>
            <a:spLocks noGrp="1"/>
          </p:cNvSpPr>
          <p:nvPr>
            <p:ph type="sldNum" idx="48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5CED4-AADE-468B-9F37-13C46C48D62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6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917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920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921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1934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945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946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1951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5" name="PlaceHolder 3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6" name="PlaceHolder 4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39468-B7C3-4E3B-8FDB-C04A6F31716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4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995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998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999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2012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023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2024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2029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 type="dt" idx="5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3" name="PlaceHolder 3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4" name="PlaceHolder 4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F4626-8C9B-4BC9-BC2B-2931CA533AB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1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072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73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74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75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76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77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78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3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8A741-11DE-4F7B-8AD3-D3EBB9521CA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07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8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9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0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1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2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3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4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80063-584A-4E33-BE87-65CA022886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12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6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7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2B5E9-A36C-4CC4-A290-8E8DADD674F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216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167" name="PlaceHolder 1"/>
          <p:cNvSpPr>
            <a:spLocks noGrp="1"/>
          </p:cNvSpPr>
          <p:nvPr>
            <p:ph type="dt" idx="6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9" name="PlaceHolder 3"/>
          <p:cNvSpPr>
            <a:spLocks noGrp="1"/>
          </p:cNvSpPr>
          <p:nvPr>
            <p:ph type="sldNum" idx="6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E64C0-26AA-48FE-8D26-5BEE02743C3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B9744-5EA7-40B5-BD1A-1D6DB85528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9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0" name="PlaceHolder 2"/>
          <p:cNvSpPr>
            <a:spLocks noGrp="1"/>
          </p:cNvSpPr>
          <p:nvPr>
            <p:ph type="ftr" idx="6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PlaceHolder 3"/>
          <p:cNvSpPr>
            <a:spLocks noGrp="1"/>
          </p:cNvSpPr>
          <p:nvPr>
            <p:ph type="sldNum" idx="6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14261-751F-4065-AD70-E9965B78A7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PlaceHolder 4"/>
          <p:cNvSpPr>
            <a:spLocks noGrp="1"/>
          </p:cNvSpPr>
          <p:nvPr>
            <p:ph type="dt" idx="6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157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58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9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160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61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2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163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64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166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167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68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9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0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171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172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custGeom>
                    <a:avLst/>
                    <a:gdLst>
                      <a:gd name="textAreaLeft" fmla="*/ 0 w 883800"/>
                      <a:gd name="textAreaRight" fmla="*/ 884160 w 88380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custGeom>
                    <a:avLst/>
                    <a:gdLst>
                      <a:gd name="textAreaLeft" fmla="*/ 0 w 475200"/>
                      <a:gd name="textAreaRight" fmla="*/ 475560 w 475200"/>
                      <a:gd name="textAreaTop" fmla="*/ 0 h 250560"/>
                      <a:gd name="textAreaBottom" fmla="*/ 250920 h 250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75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>
                      <a:gd name="textAreaLeft" fmla="*/ 0 w 930960"/>
                      <a:gd name="textAreaRight" fmla="*/ 931320 w 93096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>
                      <a:gd name="textAreaLeft" fmla="*/ 0 w 500400"/>
                      <a:gd name="textAreaRight" fmla="*/ 500760 w 50040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178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>
                      <a:gd name="textAreaLeft" fmla="*/ 0 w 889920"/>
                      <a:gd name="textAreaRight" fmla="*/ 890280 w 889920"/>
                      <a:gd name="textAreaTop" fmla="*/ 0 h 155160"/>
                      <a:gd name="textAreaBottom" fmla="*/ 155520 h 155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>
                      <a:gd name="textAreaLeft" fmla="*/ 0 w 477360"/>
                      <a:gd name="textAreaRight" fmla="*/ 477720 w 477360"/>
                      <a:gd name="textAreaTop" fmla="*/ 0 h 244440"/>
                      <a:gd name="textAreaBottom" fmla="*/ 244800 h 244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181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>
                      <a:gd name="textAreaLeft" fmla="*/ 0 w 461520"/>
                      <a:gd name="textAreaRight" fmla="*/ 461880 w 46152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184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custGeom>
                    <a:avLst/>
                    <a:gdLst>
                      <a:gd name="textAreaLeft" fmla="*/ 0 w 792000"/>
                      <a:gd name="textAreaRight" fmla="*/ 792360 w 79200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custGeom>
                    <a:avLst/>
                    <a:gdLst>
                      <a:gd name="textAreaLeft" fmla="*/ 0 w 425160"/>
                      <a:gd name="textAreaRight" fmla="*/ 425520 w 42516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187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11600"/>
                      <a:gd name="textAreaBottom" fmla="*/ 111960 h 111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>
                      <a:gd name="textAreaLeft" fmla="*/ 0 w 387360"/>
                      <a:gd name="textAreaRight" fmla="*/ 38772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190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custGeom>
                    <a:avLst/>
                    <a:gdLst>
                      <a:gd name="textAreaLeft" fmla="*/ 0 w 633240"/>
                      <a:gd name="textAreaRight" fmla="*/ 633600 w 63324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193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custGeom>
                    <a:avLst/>
                    <a:gdLst>
                      <a:gd name="textAreaLeft" fmla="*/ -360 w 883800"/>
                      <a:gd name="textAreaRight" fmla="*/ 883800 w 88380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custGeom>
                    <a:avLst/>
                    <a:gdLst>
                      <a:gd name="textAreaLeft" fmla="*/ 360 w 474480"/>
                      <a:gd name="textAreaRight" fmla="*/ 475200 w 47448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196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custGeom>
                    <a:avLst/>
                    <a:gdLst>
                      <a:gd name="textAreaLeft" fmla="*/ -360 w 930600"/>
                      <a:gd name="textAreaRight" fmla="*/ 930600 w 93060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>
                      <a:gd name="textAreaLeft" fmla="*/ -360 w 500040"/>
                      <a:gd name="textAreaRight" fmla="*/ 500040 w 50004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199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custGeom>
                    <a:avLst/>
                    <a:gdLst>
                      <a:gd name="textAreaLeft" fmla="*/ -360 w 890280"/>
                      <a:gd name="textAreaRight" fmla="*/ 890280 w 89028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custGeom>
                    <a:avLst/>
                    <a:gdLst>
                      <a:gd name="textAreaLeft" fmla="*/ 360 w 477360"/>
                      <a:gd name="textAreaRight" fmla="*/ 478080 w 477360"/>
                      <a:gd name="textAreaTop" fmla="*/ 0 h 243360"/>
                      <a:gd name="textAreaBottom" fmla="*/ 243720 h 243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202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71000"/>
                      <a:gd name="textAreaBottom" fmla="*/ 171360 h 171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custGeom>
                    <a:avLst/>
                    <a:gdLst>
                      <a:gd name="textAreaLeft" fmla="*/ 360 w 461520"/>
                      <a:gd name="textAreaRight" fmla="*/ 462240 w 46152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205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custGeom>
                    <a:avLst/>
                    <a:gdLst>
                      <a:gd name="textAreaLeft" fmla="*/ 360 w 792000"/>
                      <a:gd name="textAreaRight" fmla="*/ 792720 w 79200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custGeom>
                    <a:avLst/>
                    <a:gdLst>
                      <a:gd name="textAreaLeft" fmla="*/ -360 w 425160"/>
                      <a:gd name="textAreaRight" fmla="*/ 425160 w 425160"/>
                      <a:gd name="textAreaTop" fmla="*/ 0 h 250200"/>
                      <a:gd name="textAreaBottom" fmla="*/ 250560 h 250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7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208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11960"/>
                      <a:gd name="textAreaBottom" fmla="*/ 112320 h 1119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>
                      <a:gd name="textAreaLeft" fmla="*/ 360 w 387360"/>
                      <a:gd name="textAreaRight" fmla="*/ 38808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0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211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3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214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>
                      <a:gd name="textAreaLeft" fmla="*/ 0 w 339120"/>
                      <a:gd name="textAreaRight" fmla="*/ 339120 w 339120"/>
                      <a:gd name="textAreaTop" fmla="*/ 0 h 174240"/>
                      <a:gd name="textAreaBottom" fmla="*/ 174600 h 174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6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217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custGeom>
                    <a:avLst/>
                    <a:gdLst>
                      <a:gd name="textAreaLeft" fmla="*/ -360 w 633960"/>
                      <a:gd name="textAreaRight" fmla="*/ 633960 w 6339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custGeom>
                    <a:avLst/>
                    <a:gdLst>
                      <a:gd name="textAreaLeft" fmla="*/ -360 w 340200"/>
                      <a:gd name="textAreaRight" fmla="*/ 340200 w 340200"/>
                      <a:gd name="textAreaTop" fmla="*/ 0 h 171720"/>
                      <a:gd name="textAreaBottom" fmla="*/ 172080 h 171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9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220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>
                      <a:gd name="textAreaLeft" fmla="*/ -360 w 641160"/>
                      <a:gd name="textAreaRight" fmla="*/ 641160 w 6411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>
                      <a:gd name="textAreaLeft" fmla="*/ 360 w 344160"/>
                      <a:gd name="textAreaRight" fmla="*/ 344880 w 34416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2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223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>
                      <a:gd name="textAreaLeft" fmla="*/ 360 w 303120"/>
                      <a:gd name="textAreaRight" fmla="*/ 303840 w 30312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5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226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custGeom>
                    <a:avLst/>
                    <a:gdLst>
                      <a:gd name="textAreaLeft" fmla="*/ -360 w 543960"/>
                      <a:gd name="textAreaRight" fmla="*/ 543960 w 5439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custGeom>
                    <a:avLst/>
                    <a:gdLst>
                      <a:gd name="textAreaLeft" fmla="*/ -360 w 292680"/>
                      <a:gd name="textAreaRight" fmla="*/ 292680 w 29268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8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229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>
                      <a:gd name="textAreaLeft" fmla="*/ 0 w 631800"/>
                      <a:gd name="textAreaRight" fmla="*/ 632160 w 6318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1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232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custGeom>
                    <a:avLst/>
                    <a:gdLst>
                      <a:gd name="textAreaLeft" fmla="*/ 0 w 633600"/>
                      <a:gd name="textAreaRight" fmla="*/ 633960 w 6336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35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>
                    <a:gd name="textAreaLeft" fmla="*/ -360 w 282600"/>
                    <a:gd name="textAreaRight" fmla="*/ 282600 w 282600"/>
                    <a:gd name="textAreaTop" fmla="*/ 0 h 118440"/>
                    <a:gd name="textAreaBottom" fmla="*/ 118800 h 11844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grpSp>
              <p:nvGrpSpPr>
                <p:cNvPr id="236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237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>
                      <a:gd name="textAreaLeft" fmla="*/ 0 w 544680"/>
                      <a:gd name="textAreaRight" fmla="*/ 545040 w 544680"/>
                      <a:gd name="textAreaTop" fmla="*/ 0 h 95400"/>
                      <a:gd name="textAreaBottom" fmla="*/ 95760 h 954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>
                      <a:gd name="textAreaLeft" fmla="*/ 0 w 291960"/>
                      <a:gd name="textAreaRight" fmla="*/ 292320 w 291960"/>
                      <a:gd name="textAreaTop" fmla="*/ 0 h 147600"/>
                      <a:gd name="textAreaBottom" fmla="*/ 147960 h 1476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9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240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>
                      <a:gd name="textAreaLeft" fmla="*/ 0 w 591840"/>
                      <a:gd name="textAreaRight" fmla="*/ 592200 w 591840"/>
                      <a:gd name="textAreaTop" fmla="*/ 0 h 137880"/>
                      <a:gd name="textAreaBottom" fmla="*/ 138240 h 137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>
                      <a:gd name="textAreaLeft" fmla="*/ 0 w 317520"/>
                      <a:gd name="textAreaRight" fmla="*/ 317880 w 31752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243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>
                      <a:gd name="textAreaLeft" fmla="*/ 0 w 489240"/>
                      <a:gd name="textAreaRight" fmla="*/ 489600 w 489240"/>
                      <a:gd name="textAreaTop" fmla="*/ 0 h 44640"/>
                      <a:gd name="textAreaBottom" fmla="*/ 45000 h 446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>
                      <a:gd name="textAreaLeft" fmla="*/ 0 w 262080"/>
                      <a:gd name="textAreaRight" fmla="*/ 262440 w 262080"/>
                      <a:gd name="textAreaTop" fmla="*/ 0 h 68400"/>
                      <a:gd name="textAreaBottom" fmla="*/ 68760 h 684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246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custGeom>
                    <a:avLst/>
                    <a:gdLst>
                      <a:gd name="textAreaLeft" fmla="*/ 360 w 884880"/>
                      <a:gd name="textAreaRight" fmla="*/ 885600 w 884880"/>
                      <a:gd name="textAreaTop" fmla="*/ 0 h 160560"/>
                      <a:gd name="textAreaBottom" fmla="*/ 160920 h 160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custGeom>
                    <a:avLst/>
                    <a:gdLst>
                      <a:gd name="textAreaLeft" fmla="*/ -360 w 474840"/>
                      <a:gd name="textAreaRight" fmla="*/ 474840 w 47484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8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249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custGeom>
                    <a:avLst/>
                    <a:gdLst>
                      <a:gd name="textAreaLeft" fmla="*/ -360 w 819000"/>
                      <a:gd name="textAreaRight" fmla="*/ 819000 w 81900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>
                      <a:gd name="textAreaLeft" fmla="*/ 360 w 438480"/>
                      <a:gd name="textAreaRight" fmla="*/ 439200 w 438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1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252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>
                      <a:gd name="textAreaLeft" fmla="*/ 360 w 785520"/>
                      <a:gd name="textAreaRight" fmla="*/ 786240 w 785520"/>
                      <a:gd name="textAreaTop" fmla="*/ 0 h 144360"/>
                      <a:gd name="textAreaBottom" fmla="*/ 144720 h 144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>
                      <a:gd name="textAreaLeft" fmla="*/ -360 w 420840"/>
                      <a:gd name="textAreaRight" fmla="*/ 420840 w 420840"/>
                      <a:gd name="textAreaTop" fmla="*/ 0 h 225360"/>
                      <a:gd name="textAreaBottom" fmla="*/ 225720 h 225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4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255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>
                      <a:gd name="textAreaLeft" fmla="*/ 0 w 884160"/>
                      <a:gd name="textAreaRight" fmla="*/ 88452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7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258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custGeom>
                    <a:avLst/>
                    <a:gdLst>
                      <a:gd name="textAreaLeft" fmla="*/ 0 w 846000"/>
                      <a:gd name="textAreaRight" fmla="*/ 846360 w 84600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0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261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>
                      <a:gd name="textAreaLeft" fmla="*/ 0 w 820440"/>
                      <a:gd name="textAreaRight" fmla="*/ 820800 w 820440"/>
                      <a:gd name="textAreaTop" fmla="*/ 0 h 125280"/>
                      <a:gd name="textAreaBottom" fmla="*/ 125640 h 1252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>
                      <a:gd name="textAreaLeft" fmla="*/ 0 w 441000"/>
                      <a:gd name="textAreaRight" fmla="*/ 441360 w 44100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3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264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custGeom>
                    <a:avLst/>
                    <a:gdLst>
                      <a:gd name="textAreaLeft" fmla="*/ 0 w 754560"/>
                      <a:gd name="textAreaRight" fmla="*/ 754920 w 75456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>
                      <a:gd name="textAreaLeft" fmla="*/ 0 w 405000"/>
                      <a:gd name="textAreaRight" fmla="*/ 405360 w 405000"/>
                      <a:gd name="textAreaTop" fmla="*/ 0 h 197640"/>
                      <a:gd name="textAreaBottom" fmla="*/ 198000 h 197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6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267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>
                      <a:gd name="textAreaLeft" fmla="*/ 0 w 736920"/>
                      <a:gd name="textAreaRight" fmla="*/ 737280 w 736920"/>
                      <a:gd name="textAreaTop" fmla="*/ 0 h 95760"/>
                      <a:gd name="textAreaBottom" fmla="*/ 96120 h 957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custGeom>
                    <a:avLst/>
                    <a:gdLst>
                      <a:gd name="textAreaLeft" fmla="*/ 0 w 395280"/>
                      <a:gd name="textAreaRight" fmla="*/ 395640 w 39528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69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>
                  <a:gd name="textAreaLeft" fmla="*/ 360 w 248400"/>
                  <a:gd name="textAreaRight" fmla="*/ 249120 w 24840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0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custGeom>
                <a:avLst/>
                <a:gdLst>
                  <a:gd name="textAreaLeft" fmla="*/ 360 w 1090080"/>
                  <a:gd name="textAreaRight" fmla="*/ 1090800 w 1090080"/>
                  <a:gd name="textAreaTop" fmla="*/ 0 h 1181880"/>
                  <a:gd name="textAreaBottom" fmla="*/ 1182240 h 11818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1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2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3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8600"/>
                  <a:gd name="textAreaBottom" fmla="*/ 1218960 h 121860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4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5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6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>
                  <a:gd name="textAreaLeft" fmla="*/ 0 w 514080"/>
                  <a:gd name="textAreaRight" fmla="*/ 514440 w 514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7" name="Arc 123"/>
              <p:cNvSpPr/>
              <p:nvPr/>
            </p:nvSpPr>
            <p:spPr>
              <a:xfrm>
                <a:off x="7857720" y="605880"/>
                <a:ext cx="731520" cy="122112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8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custGeom>
                <a:avLst/>
                <a:gdLst>
                  <a:gd name="textAreaLeft" fmla="*/ 0 w 246960"/>
                  <a:gd name="textAreaRight" fmla="*/ 247320 w 24696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9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custGeom>
                <a:avLst/>
                <a:gdLst>
                  <a:gd name="textAreaLeft" fmla="*/ 0 w 224640"/>
                  <a:gd name="textAreaRight" fmla="*/ 225000 w 224640"/>
                  <a:gd name="textAreaTop" fmla="*/ 360 h 427680"/>
                  <a:gd name="textAreaBottom" fmla="*/ 428400 h 4276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80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81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custGeom>
                <a:avLst/>
                <a:gdLst>
                  <a:gd name="textAreaLeft" fmla="*/ -360 w 947160"/>
                  <a:gd name="textAreaRight" fmla="*/ 947160 w 94716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82" name="Arc 128"/>
              <p:cNvSpPr/>
              <p:nvPr/>
            </p:nvSpPr>
            <p:spPr>
              <a:xfrm>
                <a:off x="7722360" y="657000"/>
                <a:ext cx="390240" cy="1181880"/>
              </a:xfrm>
              <a:custGeom>
                <a:avLst/>
                <a:gdLst>
                  <a:gd name="textAreaLeft" fmla="*/ 0 w 390240"/>
                  <a:gd name="textAreaRight" fmla="*/ 390600 w 39024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83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>
                  <a:gd name="textAreaLeft" fmla="*/ 360 w 557280"/>
                  <a:gd name="textAreaRight" fmla="*/ 558000 w 55728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84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85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86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87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custGeom>
                <a:avLst/>
                <a:gdLst>
                  <a:gd name="textAreaLeft" fmla="*/ 0 w 777600"/>
                  <a:gd name="textAreaRight" fmla="*/ 777960 w 777600"/>
                  <a:gd name="textAreaTop" fmla="*/ 0 h 546840"/>
                  <a:gd name="textAreaBottom" fmla="*/ 547200 h 5468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88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4040"/>
                  <a:gd name="textAreaBottom" fmla="*/ 734400 h 7340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89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90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>
                  <a:gd name="textAreaLeft" fmla="*/ 360 w 224640"/>
                  <a:gd name="textAreaRight" fmla="*/ 225360 w 2246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341B2-4EF4-4A80-88F8-3620125B6184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333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4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5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6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7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8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9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0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1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2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3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4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5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6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7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8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9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0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1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2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3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4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5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6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7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8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9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0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1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2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3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4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5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6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7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8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9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0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1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2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3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4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5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6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7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8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9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80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81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82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83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84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85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86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87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88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89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0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1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2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3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4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5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6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7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8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9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00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01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02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03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04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05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06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07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08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09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10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11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12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13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14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15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16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17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18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19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20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21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22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23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24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25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26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27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28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29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0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1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2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3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4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5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6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7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8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9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40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41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42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43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44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45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46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47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48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49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50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51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52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53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54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55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56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57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58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59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60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61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62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63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64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65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66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67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68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69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70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71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72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73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74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75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76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77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78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79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80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81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82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83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84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85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86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87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88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89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90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91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92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93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94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95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96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97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98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99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00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01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02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03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04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05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06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07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08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09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10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11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12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13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14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15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16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17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18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19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0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1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2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3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4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5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6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7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8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9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0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1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2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3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4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5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6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7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8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9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0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1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2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3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4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5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6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7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548" name="PlaceHolder 1"/>
          <p:cNvSpPr>
            <a:spLocks noGrp="1"/>
          </p:cNvSpPr>
          <p:nvPr>
            <p:ph type="sldNum" idx="1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DF53F-20DB-40CE-8F33-6ACA2BC09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dt" idx="1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ftr" idx="12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90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1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592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593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94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95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596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7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8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9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0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601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602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603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4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5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6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7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8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A8706-D297-4AAF-B943-E2E0AB1E4C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65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65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65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5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5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5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5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5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5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6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6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6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6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6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6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6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6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6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6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7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7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7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7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7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7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7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7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67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67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8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8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8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8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8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8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8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8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8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8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9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9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9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9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69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9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69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9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0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0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0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0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0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0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0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0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0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1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1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1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1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1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 type="dt" idx="16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 type="ftr" idx="17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D5B9A-CC87-4D3E-863C-72466DAFAD0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757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58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59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60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61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62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 type="dt" idx="19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 type="ftr" idx="20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DA4AB-B958-4E60-A6A4-FCEDE887DA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805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06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07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08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09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0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1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2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3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4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5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6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7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8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9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0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1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2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3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4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5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6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7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8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9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30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31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32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33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34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35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36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37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38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39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40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41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42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43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44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45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46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47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48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49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50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51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52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53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54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55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56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57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58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59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60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61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62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63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64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65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66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67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68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69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0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1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2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3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4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5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6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7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8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9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80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81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82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83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84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85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86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87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88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89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0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1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2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3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4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5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6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7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8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9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0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1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2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3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4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5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6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7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8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9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10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11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12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13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14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15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16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17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18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19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0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1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2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3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4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5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6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7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8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9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0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1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2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3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4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5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6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7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8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9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40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41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42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43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44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45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46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47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48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49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50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51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52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53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54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55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56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57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58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59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60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61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62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63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64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65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66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67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68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69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70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71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72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73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74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75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76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77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78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79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80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81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82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83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84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85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86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87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88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89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90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91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92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93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94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95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96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97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98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99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00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01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02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03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04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05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06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07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08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09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10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11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12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13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14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15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16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17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18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19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02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FBD07-7825-4CDF-BC36-273CBD7013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0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0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10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0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5EB14-6BC6-45D0-B8B2-2BA9ADF4A17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3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OTHER RUSSIA’S PAS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 type="subTitle"/>
          </p:nvPr>
        </p:nvSpPr>
        <p:spPr>
          <a:xfrm>
            <a:off x="1549440" y="4059000"/>
            <a:ext cx="6045120" cy="15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y Daniel Driscol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ilson Wo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sabella Lam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Cold Wa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oviet economy face Economic problem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or quality goods, factories become inefficient because of no competition and being under government contro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p with tanks and airplanes, down with cars and refrig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ew consumer goods, little food, and lines for your basic foods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thnic groups disliked the government contro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2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1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231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nvas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18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22-Communist leaders are securely in pow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22-Russia formed U.S.S.R.(Union of Soviet Socialist Republic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24-Vladimir I. Lenin di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41-The Nazis invad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19" name="Picture 3" descr="images234.jpg"/>
          <p:cNvPicPr/>
          <p:nvPr/>
        </p:nvPicPr>
        <p:blipFill>
          <a:blip r:embed="rId1"/>
          <a:stretch/>
        </p:blipFill>
        <p:spPr>
          <a:xfrm>
            <a:off x="5867280" y="3657600"/>
            <a:ext cx="228600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70" dur="2000" fill="hold"/>
                                        <p:tgtEl>
                                          <p:spTgt spid="2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ead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21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40s to 1980s-Cold war between the United Sta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24 to 1985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seph V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lin became lead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22" name="Picture 3" descr="imagesCABOBJT6.jpg"/>
          <p:cNvPicPr/>
          <p:nvPr/>
        </p:nvPicPr>
        <p:blipFill>
          <a:blip r:embed="rId1"/>
          <a:stretch/>
        </p:blipFill>
        <p:spPr>
          <a:xfrm>
            <a:off x="3429000" y="2286000"/>
            <a:ext cx="3048120" cy="1504800"/>
          </a:xfrm>
          <a:prstGeom prst="rect">
            <a:avLst/>
          </a:prstGeom>
          <a:ln w="0">
            <a:noFill/>
          </a:ln>
        </p:spPr>
      </p:pic>
      <p:pic>
        <p:nvPicPr>
          <p:cNvPr id="2323" name="Picture 4" descr="images13.jpg"/>
          <p:cNvPicPr/>
          <p:nvPr/>
        </p:nvPicPr>
        <p:blipFill>
          <a:blip r:embed="rId2"/>
          <a:stretch/>
        </p:blipFill>
        <p:spPr>
          <a:xfrm>
            <a:off x="5029200" y="3886200"/>
            <a:ext cx="2048040" cy="22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Soviet Collap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ikhail Gorbachve was responsible for the fall of communisim and the Soviet Un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ikhail was appointed general secretary in 1985 after three deaths of previous lead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ikhail introduced many reforms causing problems to be known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re were ethnic, political and economic problems in the Soviet Un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Russian Civil Wa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sed by the treaty of Brest-Litovs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lict where the red army (communists) defended  the Bolshevik government (anti Bolshevi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zechoslovak legion retaliates and takes control of trans-siberian railro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anti Bolshevik authorities app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1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98" fill="hold"/>
                                        <p:tgtEl>
                                          <p:spTgt spid="2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98" fill="hold"/>
                                        <p:tgtEl>
                                          <p:spTgt spid="2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2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98" fill="hold"/>
                                        <p:tgtEl>
                                          <p:spTgt spid="2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98" fill="hold"/>
                                        <p:tgtEl>
                                          <p:spTgt spid="2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d Arm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9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077320" cy="4724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2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2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2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2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ite Arm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98" name="" descr=""/>
          <p:cNvPicPr/>
          <p:nvPr/>
        </p:nvPicPr>
        <p:blipFill>
          <a:blip r:embed="rId2"/>
          <a:stretch/>
        </p:blipFill>
        <p:spPr>
          <a:xfrm>
            <a:off x="609480" y="1539720"/>
            <a:ext cx="7848720" cy="47847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800"/>
                                        <p:tgtEl>
                                          <p:spTgt spid="2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2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2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2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Bolshevik government started a campaign of “red terror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n July 16-17,1918 the members of Nicholas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I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amily were kille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munists red army took most of east european Russ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anti communists tried to build a new army with help from Britain and the U.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ritish forces fight with the communists at Murmans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lchak disliked the socialist revolutionaries and the communi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November 18,1918 Kolchak set up his own dictatorship using a coup d’et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1919 the red army invaded Ukraine forcing the socialist revolutionaries to retre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sts held some parts of Ukraine while the anti communists held 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llies tried to get the communists and anti communists to make a peace trea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llied forces helped by sending around only 200,000 soldi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olchak closed in on the Urals and had his success by Apr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red army countered and Kolchak had to retr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olchak was shot on Feb.7,192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of Ukraine was in the white army’s hands due to the efforts of Denik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white army tried to take more land while the red army was advancing on th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white army prevailed, but had to retre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red army destroyed Gen. Wrangel’s for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1920 the Russian Civil War end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2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2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t’s a bird, It’s a plane, It’s a Super countr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the second World War, Stalin was taking extra precaution to protect the Sovi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oops were sent out to neighboring countries in Eastern Europe countries to set up Communist govern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lin and the Leaders of these countries strengthened their military and built nuclear weap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 became one of the two super pow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2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2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2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2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13:57:24Z</dcterms:created>
  <dc:creator>honely tang</dc:creator>
  <dc:description/>
  <dc:language>en-US</dc:language>
  <cp:lastModifiedBy> </cp:lastModifiedBy>
  <dcterms:modified xsi:type="dcterms:W3CDTF">2010-12-22T13:41:01Z</dcterms:modified>
  <cp:revision>16</cp:revision>
  <dc:subject/>
  <dc:title>MOTHER RUSSIA’S PAST</dc:title>
</cp:coreProperties>
</file>